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287-1005-4798-8FA7-F97DCED5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1B4-69BB-4D9C-B93E-BF65B6C1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9469-D7C0-4B3A-A90B-A5C89A5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E53D3-CA00-4E68-A9F9-EA7198B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C5B59-D6EE-4A70-811F-ECF7B9C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24137-313E-44E6-946B-73F0A5D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768F0-8F0D-4FD2-B5AE-53CC2C4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3371-B436-4806-B171-4AD058B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7AC98-02CC-4ACB-90CC-980C2D89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BFF88-1140-45D6-B72A-22C9495D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FF263-DE8F-4DDB-9B73-4A5050C2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A95F-EA96-41E4-9012-058A1441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11F-0CEB-4459-B373-409AE411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1C55-8A70-4A7A-9099-C6D142E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0E63F-3CE7-4B70-A737-D82903D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99B3F-0F59-4D5F-B0BB-F1EF6CF8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032AC-528F-426B-8D26-96BBCD7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25799-6758-4100-A8CE-3452D43C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D7648-A2E3-4FF5-B9D5-9D51CCE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D0E34-A284-4D73-8EB0-06CACFF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DB7A3-934D-4A80-99CB-28B75D54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E7275-BA48-48E8-B45B-808F3DD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B292A-6A85-41BF-BF43-A14491C8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0A5-2889-45A8-9BF4-810D4720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AF5BB-571A-4C87-A4F7-EDBF5D22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0E91-88B9-4077-83BC-883C26AA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FEBC-172C-49C9-9F5F-82507C6C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72E6-FFF5-412D-BECB-99A8B6B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97D9-DF51-43F2-A3FB-46ADE5E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B126A-CF43-407B-9A5C-7DF9693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8B2A5-D510-4255-A51C-9CB9DA06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C86A-AB51-4857-87EC-DD03942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B6B30-5B17-42EB-9E54-F9B333A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0D6D-E789-4A74-A802-E7BD587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6B67-1E2F-4169-BB87-8EDBCE2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0C52-1230-4155-9E24-8DB0E7F4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36FA-B914-4628-8F1F-34BDBD86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1A51-83AD-4DEE-8C92-F0DE7CEE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5112A-A982-4201-A0D5-275A20F1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305B5-295F-47FD-9FBB-62B7275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D1BEF-2F35-4DEE-A0EB-5E646F2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35D11-54BF-4514-8485-F0394B9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90BEA-286B-4F68-BD7A-05303072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5FF71-01F9-4751-88BA-5E8060A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A24A0-4A2A-41FF-8FF5-026DB52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5BF9-5485-46CC-973E-DEA47B8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BA098-3340-48FC-9FBE-2BCE64A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B4E1-78F2-4927-97D8-FFA661C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01AB-6A5E-415F-A0E0-6BFE77F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63802-DC48-47C4-8EF4-023E7148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AA2FE-71D7-4993-ADBE-C4179862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2D2A-7E93-4ED4-A813-DB11D687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A68-9839-4517-81B4-64B7623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826D-2B3B-4502-9C6B-ABF12BE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C90-B04F-4840-B800-4960DFF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5B9D-5C3F-4DCA-90C7-204E816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4F2-F370-47D2-A3D0-20F3889C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74B-1CE6-42D6-A117-99A04DD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042-AD17-45E8-8553-AEE86BC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E165-3177-4292-8600-4A19F17B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2B4C-7744-436B-A78A-48FCBFFB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872C-CAD5-454E-A99A-109A6B91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12A7-7D1B-4739-94E1-FEEC6A26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B811-6A88-4DFB-AE0A-0B642CC0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BA14-63A6-4109-9B77-2BE646D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4CD5-2394-4BCC-95FA-E968EDBC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03AF-1B59-4258-B5E9-905605A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483-73E6-4F85-B05F-19DC5D1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4581-D8EA-49CB-B347-C57878A3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3A1A-5C8E-47AF-AD97-445F7CA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AC5F-3A0F-4C04-821C-37977A0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8D38-F9D9-4B64-8EC2-C4780737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8D55-707C-4704-928E-BE8EE564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C6F0-6965-477B-856A-92D6EA54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A83C-A8B2-436A-8E8E-660D88B8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2759-EBCE-4D89-A48C-F560AF7D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8577-62EC-4DBA-B088-24E8082F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2675-8564-4C74-AED0-D1416CB5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C91-895B-438A-95F6-D328F67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444A-E2EA-4AF0-9E58-92C62AB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BC76-57AA-4B8D-962C-29B26363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2564-5A94-4301-A75D-74A3461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D291-1498-487A-A608-2B0ECFC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BE98-2CDF-4D70-8A57-0864F5B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9E13-B630-49FF-9424-6640C5D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E46C-1D67-4461-B158-35CAE577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E646-52C3-493E-932E-73EF3400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45F0-19CB-4AE2-9567-D8B9CB07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BD29-543D-4586-B56D-057E56B5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D76-A14D-40EE-921B-3B4F1DC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313E-5831-43EA-90C7-AC209B5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F9D3-1B1B-4BE6-B2C0-E413AEE1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FD41-B799-4FB5-93A4-75FBF66A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A7A4-1AC3-45F2-B96F-78853C2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6786-5437-4BFC-A4EE-74A47F71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2E86-9184-4316-97CC-CB475E3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573F-0B37-422A-BD9A-D52E88A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17B4-DD54-41FE-9E20-7AA6127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D413-08F2-4C79-91C1-CA275505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658D-C74B-472B-9E45-263A544C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C9C-A397-4BEB-8159-BC234C44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FC9A-29A4-4E99-8611-46CC920D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BBDA-9E5C-4F47-AF33-7FF00D4E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043C-E2D3-463A-93C4-3061DD1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035C-4E8D-4598-BE60-22848DA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B74B-941D-4F3C-8111-A47C96CB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3116-CF40-469D-8C4F-7C67B7D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B26E-E229-4493-9912-6CA08194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A179-D27C-4952-AA8F-E1B3E9A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F678-6AD8-46B9-8338-A31A202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4537D-F4B8-4DE7-917E-AFE63FD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57B-EDDA-472B-94BE-92881EA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E08B-4840-4868-ACED-85E79FB3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E695-E784-4EC7-B1DC-5A5C8B29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A60C-959A-4463-9119-F884AC08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9848-EA30-4AF4-9CF1-17FD097D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8C8F-353C-4404-8B5A-2E786B5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6379-2A22-474F-A686-917E505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6DEE-1C1D-4F32-9BA7-603EDC14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BCA6-93CE-493C-AAD9-20DEC75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06902-CAF9-4817-999B-9E0B5D87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4E66-4B19-4515-94C8-DE188892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DDE-8FFB-4AFC-9D07-752E23F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9DFC-50EE-4E33-A4CB-A68B189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8B4B-E53F-4D16-8D91-0968483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D76A-EA17-43ED-BDF0-7A98B980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6B5E-9A00-49EF-BE8C-FA6B0950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0AE9-3FDE-45BF-9512-413DFBC5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C177D-3377-4B42-8336-8A9495B2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0CCC6-BC10-4CD6-863B-162EE8A1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0C73-BFC5-4E08-A0E8-D25BF0DF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859F-3952-4495-BE3B-30FB017E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43A8-EF3A-4DC8-9341-CA6C925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97B-3396-4066-9EBF-7688A69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6DB00-BE03-45A2-9C54-A662391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12FB-59C3-48C3-A554-FD05893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2D25-6715-4567-A1A5-86A0E26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446A7-ED24-4DE7-B128-130B9B3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F7EB-DB67-4B9C-913E-96C7A9B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1BB6-BB88-4BE5-94CA-B9FCC615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9EFE4-EF3F-4DAA-8E2C-C5CDFB1B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D1A0-8569-4081-91D0-8ADAFE95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EBADB-6255-497B-A9D6-4D613D66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C3242-E445-4599-8D8F-47E0BA8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22F-1A73-4B01-85C1-9CF7A2EB2F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0F6-FD94-43A6-9D94-05AAACBD86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BBD-5A12-4A17-8B38-A20DA2051A8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41B-422E-4B8E-97B7-1554A3DFFE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9CC2-AB36-4DC6-A96F-2F029744F5B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50B-976D-4F9B-98AD-0D14828929D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AEA-B9C6-4A5E-B5B6-25C24E6F64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E55-0E52-4DC8-84E6-18822B9239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3E1-F5BB-477F-869A-90E4E4C3D2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7ED2-C88B-487A-A968-15569D4AE8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820-1FBC-4CAA-8B7B-27E2C17410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904-AE9E-4366-A27C-6D84A87F11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Hidrostatski i hidraulički t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oji li tlak u tekućin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li tlak svuda na Zemlji jedn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znači kad se u vremenskoj prognozi kaže da je atmosferski tlak 995 h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414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4"/>
          <p:cNvSpPr/>
          <p:nvPr/>
        </p:nvSpPr>
        <p:spPr>
          <a:xfrm>
            <a:off x="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hidrostatskog tlaka o du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1184400" y="5562720"/>
            <a:ext cx="7353000" cy="64260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rostatski tlak u tekućini djeluje na sve st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438280" cy="3400560"/>
          </a:xfrm>
          <a:prstGeom prst="rect">
            <a:avLst/>
          </a:prstGeom>
          <a:ln w="0">
            <a:noFill/>
          </a:ln>
        </p:spPr>
      </p:pic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228600" y="719280"/>
            <a:ext cx="1357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Hidrostatski t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609480" y="1828800"/>
            <a:ext cx="85345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je zbog težine tekuć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i o dubini tekućine i o njezinoj gustoć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1981080" y="3429000"/>
                <a:ext cx="199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5" name="Picture 6" descr="hidrostatski tlak"/>
          <p:cNvPicPr/>
          <p:nvPr/>
        </p:nvPicPr>
        <p:blipFill>
          <a:blip r:embed="rId1"/>
          <a:stretch/>
        </p:blipFill>
        <p:spPr>
          <a:xfrm>
            <a:off x="5486400" y="3200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7"/>
          <p:cNvSpPr/>
          <p:nvPr/>
        </p:nvSpPr>
        <p:spPr>
          <a:xfrm>
            <a:off x="2736720" y="5486400"/>
            <a:ext cx="27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ređaj za hidrostatski tlak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sudama različitog oblika i jednak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na. Dokazuje se da hidrostatski tl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 ovisi o težini tekućine u posu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Atmosferski t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4"/>
          <p:cNvSpPr/>
          <p:nvPr/>
        </p:nvSpPr>
        <p:spPr>
          <a:xfrm>
            <a:off x="536040" y="2362320"/>
            <a:ext cx="44521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je zbog težine atmos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manjuje se porastom  vi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43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Atmosferski tl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5" descr="meteo"/>
          <p:cNvPicPr/>
          <p:nvPr/>
        </p:nvPicPr>
        <p:blipFill>
          <a:blip r:embed="rId1"/>
          <a:stretch/>
        </p:blipFill>
        <p:spPr>
          <a:xfrm>
            <a:off x="380880" y="1371600"/>
            <a:ext cx="3962520" cy="31701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6"/>
          <p:cNvSpPr/>
          <p:nvPr/>
        </p:nvSpPr>
        <p:spPr>
          <a:xfrm>
            <a:off x="4572000" y="182880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Ciklon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odruč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 sniže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Anticiklon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odruč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poviše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raka (normalni tlak zraka 1013 hP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60720" y="4681440"/>
            <a:ext cx="213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eteorološka karta Europ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dacima o tlaku zr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3"/>
          <p:cNvSpPr/>
          <p:nvPr/>
        </p:nvSpPr>
        <p:spPr>
          <a:xfrm>
            <a:off x="-101880" y="1676520"/>
            <a:ext cx="8122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hidrostatski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hidrostatski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iz slamke napunjene vodom ne curi voda ako 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čepimo na vrh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isi li atmosferski tlak o nadmorskoj visini? Objasn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Slika 1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6:57Z</dcterms:modified>
  <cp:revision>67</cp:revision>
  <dc:subject/>
  <dc:title>Slide 1</dc:title>
</cp:coreProperties>
</file>